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771-B608-4E94-9B54-D4E89143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1306-BB49-4E76-9145-F4F88229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A16-0C14-45B2-9556-96DDA225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B12-728E-4661-9BC0-6CA50A01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315-C383-4D02-91EF-6A9B8C80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11D-B5EB-4918-BDD3-2E357C4E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B3A-5439-48D5-BE89-FF3D9720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5E4-037B-48FF-B5D3-21EB6D82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AA2-93A7-408B-B991-2124A3D6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DB0-9C47-4A2E-BCD2-949239FF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5DA-6699-4760-8F34-624C254A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07F0-CC64-4C60-BFF2-C2D20A43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A3C6-2D60-401E-8897-52E59E1D2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alibri"/>
              </a:rPr>
              <a:t>Factors that Affect Climat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1247760"/>
            <a:ext cx="7848720" cy="553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7086600" cy="531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23880" y="1492200"/>
            <a:ext cx="5867640" cy="4908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701028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7120" y="380880"/>
            <a:ext cx="6093000" cy="609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772400" cy="5173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71600" y="5181480"/>
            <a:ext cx="76212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5791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4:41:55Z</dcterms:created>
  <dc:creator>Customer</dc:creator>
  <dc:description/>
  <dc:language>en-US</dc:language>
  <cp:lastModifiedBy>OCDSB User</cp:lastModifiedBy>
  <dcterms:modified xsi:type="dcterms:W3CDTF">2012-04-17T15:32:45Z</dcterms:modified>
  <cp:revision>12</cp:revision>
  <dc:subject/>
  <dc:title>Slide 1</dc:title>
</cp:coreProperties>
</file>